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386-DF75-455D-BCCA-794DC2D8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646-167D-48DC-9A72-76F07DF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F8B-B103-4DC9-9C39-89246E0D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450-89D9-4FA6-9803-9943FE3E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D9E-FFAF-4B67-B804-F68B561E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E2D-1096-4994-B7EA-56D0F49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063-B3AA-4A16-903F-AD35036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0DA-8116-44C4-A0D0-4960A88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EC8-6E2E-4C61-A765-D351FC71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959-1D88-48D1-ACB7-08FC93C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B8A-CE75-4C4D-AAFE-8F6F52F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F26-5B67-4166-9FB2-BBD30F5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F85-6314-4946-B81C-EDD6C5E8922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ootle.edu.au/" TargetMode="External"/><Relationship Id="rId2" Type="http://schemas.openxmlformats.org/officeDocument/2006/relationships/hyperlink" Target="mailto:principal@hay.wf.catholic.edu.au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learningfederation.edu.au/default.asp" TargetMode="External"/><Relationship Id="rId2" Type="http://schemas.openxmlformats.org/officeDocument/2006/relationships/hyperlink" Target="http://www.thelearningfederation.edu.au/default.asp?id=1691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cootle.edu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rname: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incipal@hay.wf.catholic.edu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ssw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66"/>
                </a:solidFill>
                <a:latin typeface="Arial"/>
              </a:rPr>
              <a:t>stmarys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765000"/>
            <a:ext cx="54007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COOT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92360" y="476280"/>
            <a:ext cx="597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Scootle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s access to more than 8000 items of digital curricul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achers can create personal lists of favour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s the Le@rning Federations digital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can access specified content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learningfederation.edu.au/default.asp</a:t>
            </a: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site allows teachers to find material to use with their programs in each KL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may be doing a lesson on Mass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to The Learning Federation Website. Open Teachers file. Go to Mathematics and find the following activity as a lesson. 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he Le@rning Feder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89000"/>
            <a:ext cx="684072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1280" y="3800160"/>
            <a:ext cx="45370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ing the Le@rning Federation Catalog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For Teachers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click on catalo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ose a K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arch for some content you could use in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665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reate a learning path you need to first find the activity you are search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ick on the activity to view it. If it is what you want to keep you then create it into a learning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ick on “Add this item to my learning pat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the folder to save it into. Eg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footnote about it. Perhaps who it is suitabl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549360"/>
            <a:ext cx="465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reating a Learning Pa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Learning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to Learning 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to My Learning 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ick on the folder you think it might be in. E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ok for created learning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1:58:40Z</dcterms:created>
  <dc:creator>donnaw</dc:creator>
  <dc:description/>
  <dc:language>en-US</dc:language>
  <cp:lastModifiedBy>donnaw</cp:lastModifiedBy>
  <dcterms:modified xsi:type="dcterms:W3CDTF">2010-03-31T03:53:26Z</dcterms:modified>
  <cp:revision>8</cp:revision>
  <dc:subject/>
  <dc:title>Slide 1</dc:title>
</cp:coreProperties>
</file>